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FDA-E1AD-4616-B8B2-C6AEA249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BCB-F6DC-45A9-87CE-1527EE64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945C2-8F23-4D24-9755-72D950C9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8B1B3-101A-442A-A8CB-A81A2931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5FE06-5B0E-44D0-9FA0-9C6379FA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9F629-E62F-49C6-9836-3DDDBDE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D6F68-F8A1-49B3-9DF0-BB31F27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0C76-633A-4916-AA47-CFBC86F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E638-D1B3-487F-A169-B526BE1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0469D-B757-4C12-BFDB-101127B6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51DF8-C2C2-4201-9235-BB3BDD5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FC53A-39AC-43B5-B10E-038BBC44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F80-CD62-4373-98C5-7A7B311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3E7CE-8191-431E-93DD-A607FED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0CB8-CE0B-435C-B87F-9AD6E04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D930-13A2-4613-8F67-47200C7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1CF0-4825-492B-8DCE-EDDDB369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9DA3-D418-4F1E-B727-B3D5306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8B76E-FF21-4527-BBB3-1150FF9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8F95C-6673-4016-A2BD-FE9C6F6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EB14-0880-4C94-9627-A1499B7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0B2AE-36C9-469E-A2D5-C09AAC9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CB66F-DF53-496E-8158-DBF57B86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816-027F-432F-A68F-2A1029A5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D8317-22BF-471C-9E74-8E320685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B8016-A1D4-4B39-8E3F-11B157BF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03512-6350-4EDD-8AB9-4173FADC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1890E-C372-41C6-9472-658A851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A78DA-4F20-4F41-A573-267C4AF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0F651-39A4-4BBF-88E0-C1E8F734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95D34-1142-432B-A768-A3F06C6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BCB9E-AECF-4DC9-A43C-0050A89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AE666-EA0F-4B05-8991-FC2D31F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A1B4C-F773-4553-8AFB-3743250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39A3-A866-4FF1-849B-DF16A0ED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F817-E613-4E53-B139-D8157B5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CA8A0-0CF0-4B31-A528-2C3A8781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F82A-984C-473E-9C5B-92D5D216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6542E-EB04-49E2-A8D8-D2F8E30C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A8A08-1070-4674-AF35-20E2F7D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CBBA4-D608-4E78-935E-E0AA3189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7CC39-34FD-4197-957C-05B0609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728D0-7A06-4630-8082-CC387E12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71DBF-704C-46EA-9BA4-DE423482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38120-84A3-4A38-8B5F-8279B61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5636-BA00-49F1-A141-2B2310CD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2A6FE-6BB8-4815-BFFC-F303D67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28E1D-A176-4CF1-918D-F4AA1D5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64815-BC84-40DF-A788-D88FCC5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EC607-E55A-4FD7-A0F5-945D0604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3B933-89D5-4719-80E1-3C442088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F2142-B418-4D6E-8325-578A9E90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AF4F5-C255-412E-97C1-76535464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F446E-941D-40AF-822E-4C9731D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3C21E-4B5B-49E7-AFBA-A6D462FE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EBB37-E5B9-4ACF-B67E-6F33680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0CA-8B47-4A68-8E87-3C9340E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81B40-6BF4-4F1B-9ABD-FA32B303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64A84-FCB2-4202-AABA-C32D695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D203E-9C77-4B1E-861A-5329585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B9BC1-E36B-4378-B139-441D5E5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D5F9C-B7C9-4867-8FB5-E43672F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291A0-4FF5-46D8-A9A5-93732F6F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B6B44-5040-4812-92F3-9AD48A53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BF39A-73B5-4221-9A04-A60D70B3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D205C-5550-4173-A403-8CE6D318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FCE3A-B14F-40F9-A299-93AB89A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CAA-C14A-4EB5-969A-5B92E501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6BFE6-48E2-46F3-9C74-528556E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049EF-4CF1-487C-826A-E0320171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E9C10-FEB4-4ABF-BAE9-3406FCA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44361-3E67-4E00-A5C8-A0DBB33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F182C-295D-499D-B70C-610AAAE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5C8A5-A634-4FD7-BBD8-0CD0FB7C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DAA5D-0341-4064-9886-3DFD7E5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782C6-D1A8-46C6-8637-A4C1D520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58362-5666-464A-82DC-A06EB556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DDAD3-756C-4972-AB55-E1E759D4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A62-57ED-4E60-A082-723D54B1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18401-8CA3-4E14-AC10-A144CA88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99C6C-AC6D-4703-B397-92E5B2FB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6FCD9-0EB1-470B-A006-632B25D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E7599-D139-4F5D-BECF-6378CFAC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D80C7C-457D-4BB8-B8DB-37AFF57C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69D88-2E0B-4CF8-A548-F2E47CF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C7106-3E99-4349-8C44-FB7F9B0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D1D6A-E7FD-4138-A71B-3562C0C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55DF5-06A2-4589-8A70-C61DEEF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899B4-353F-42C9-97AD-A9C888BD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8024-E4C1-4AC5-ADDE-93BF5F1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7696A-20AC-4B99-841A-0A5E772E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A8BAE-1108-4B0E-A246-9D40E7D9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B3658-A0E9-45F9-92BD-4CAE92D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B9420-56C4-4083-93CA-DCE399D0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455BE-7751-47E8-B6F9-98CB195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D7891-B752-4096-9173-B4C88BF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EC369-BA46-4CE9-A632-B99C4BE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A97DA-F907-484E-92AC-77BE681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7222C-FCBE-44E0-8DF7-ACB58B0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9DCBC-6E0C-4676-B4A6-A283558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E93E-14AA-4F4C-B16C-3AA920D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9A49D-7BE8-40DD-B91F-2C0E1FB4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867E2-9BF2-48A6-810E-35DAA96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00E79-D3A4-46A3-8C13-F1E40D7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D2346-AE16-4F42-A880-BB097CBF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49EA2-A786-425A-8FC3-2CD9296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D2BBD-13DF-47A5-B432-9EEAC49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5AA06-BD63-4454-AA97-14ACFFAA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D067F-8F30-4A55-B41E-BCDB7DB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E9B8A-2882-4EFE-8C7C-D87E298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34981-B220-4E90-86D2-824F5ED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1C5-75EE-4536-A2F2-CAAD172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55A2-FE2B-418F-91C2-452CFF7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15F47-0C48-4E84-8D0A-CC67037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DA0D1-58F6-4CE5-B51F-986C954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AB8AB-325E-4B72-B837-8857B41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1C32F-2051-4232-8C04-294DD807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547EF-09F2-4EF0-A7FF-F22351F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1E6D9-1070-47CD-856E-642A2FE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2114F-1B9D-48C1-903C-174297D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183DB-89DC-4D86-8A2B-7DFA0DB2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6085A-3F1C-4793-829A-4B5CE994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8C76A-15F0-4B33-BED4-5CA7DCA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91D7-DB78-4A03-A950-3BA010C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8C70E-A90D-443D-A6DA-A03CAD63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824DB-26C5-4291-A98E-2D72A68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5EC21-F3F5-40E5-ACE7-3995C08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1C2DD-FFD0-4F5F-9E72-42965F5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CE39B-9A25-488D-8CFB-F068504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673FE-BD98-4D71-8013-258D5522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1DC3F-4EDC-4622-BC3D-F03F8983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56C4B-4019-46AB-BE6A-07F5835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1B7B3-FB70-4158-BFD0-1ADEC6B1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33D96-3F65-417D-A4DF-2B56587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32B-1203-4108-968F-29B09E4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AF416-248C-4AE7-9C51-9D68857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E556E-838E-4B0C-A0DF-418D0FF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7AAB9-D183-4E81-BDA3-760C013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28343-7539-4BCA-96DC-D06E6B1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ADAE4-DDC7-4CB0-BF79-2B6395F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EE0A9-2493-49CA-BED3-F309968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8A1BC-39F2-46AA-A228-4807130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D9DBD-D8A3-460F-AC44-9B5F2E13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C6756-FD53-4EB9-A8AE-48701AE9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B6270-39AD-4C2F-B077-EA7D331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36FF-69F1-441B-8681-64D3B98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E0668-F3AB-4582-9B1E-A0D5C82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D2AB5-7AE0-4A7C-A044-EB1733B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60B07-542E-403D-ABF1-269EC52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81F63-76A7-4CB5-8622-B04C211B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1BCA0-32F8-42A4-9BAB-80A0C520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77CCB-678C-4C05-85F6-C607E9CC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01508-53F7-4B5B-91A6-6ED2B1E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4BB4F-5A7C-415A-8EE1-A299F9C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A2BCC-0818-4B82-8726-536B032F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88DF8-4F5E-4D37-809F-34E54E5E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41B-2E7B-48E7-8B59-14CB538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0C994-A296-4635-BDA8-E507DC0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471F3-2B72-48D7-9244-BAD8BF61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64286-2ED9-4135-B1B0-5BE36AB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0C2CCF-84E4-4158-B9E4-1D9D6903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4772C-7554-4A27-BAF1-ED6CA0BE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399E3-3866-41D6-976A-0DE38E12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72F14-8924-41D7-95A3-66EA1075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7D264-6353-4AAB-A6FC-AC563FC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4327C-1591-48D9-B8A5-A8D53BB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BE7EB-0F9B-401D-B8A2-0EF053E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0EF7-5CA6-4D95-9C03-9E90640A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C4733-D14A-42B8-B8D9-90E24CA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7143B-EBA4-45C3-BDA9-C303A32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09471-69FE-4BDF-A72F-1B40923B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4184-E391-4C83-A526-EC52A81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A852-4F72-45C8-ACBF-7EDE52CC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7F80-228D-4AFE-90F9-4A882F6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82CA-1066-491B-B1A8-7E9D723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C26-9C2B-454A-97B3-F01C203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31C0-92BF-4955-8E33-85C4A70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442F-8577-49DF-BCC0-B3021840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851B-6391-474D-A3AB-3CFA061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71A1-EA97-472A-B986-8D2A6B58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1EB2-C14F-4116-8858-7E937A8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BDC1-55F5-4E50-96A1-AF391340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70FB-3686-4DF6-84DA-714FF5E8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9D48-A812-49C9-A03F-53F4DBD3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143F-AF53-4D31-9CAE-E0169DCD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43532-7834-4D42-8A82-91EE15C2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1FB-FFBA-4679-8D4E-54B8331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C028-7671-4FFA-ADD5-52A22AE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86CB-1125-43CC-8BC4-DF8FA30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9732-C9C6-4C12-B960-738FA32A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5597-48FF-4CBE-A842-E2BF770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DD7F-9B33-4A93-BA19-AC1D976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3702-3665-4518-AA96-3174D82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66AF-EA14-4CC2-9529-F864B56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9D95F-3759-4B5C-899F-4B9578ED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A158-AEAB-4F8C-94F1-FC46C6FD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A3F9-0038-41AE-8047-217BD02B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BF9-5107-4EFE-A0DE-8FFBF20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1235-7D1C-4D06-ADDF-8DC39829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5253B-D022-4CE0-AE77-2200A89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3353-4641-4677-9AE3-EA2C463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E2BD-E00E-47A1-88F4-3C7D3470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EF22-0093-4D6C-8C3F-64B047A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0F75-3649-44F6-BD4B-D15FD7E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4F8E-3C71-4AAB-921E-50B7919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AE17-0045-48B1-996D-CDFCAAB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407A-0C60-4CFE-972D-86538D7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415E-E778-49F0-8C01-9686A565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F3E-B7CB-460D-9179-501779CE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13F7-430F-4349-A3B9-68C4FF97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1CC5E-60C4-47B5-B74D-89AB1534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A3F4-F78E-412E-8D94-37BDDEC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38BF-B441-410C-A7B3-E11B2123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CCB2-11D7-4372-AC58-02B9B8A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0746-6AC5-4508-A4A1-43893EA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AE728-EC1E-4927-B490-11FE4D4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C47D-379D-4815-8CB8-1A3AE99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16EC-51A8-4081-A983-3704EFE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9EEC-9867-45EE-B4B2-D14B710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95-049A-4D98-943B-901080F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0E81-C39F-43E8-AA01-44F849B7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4590-AC4E-48EC-BFCC-1F5ADFDE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CD11-AAA5-4231-9CA0-FCD6314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5A2A-9159-488E-8DFB-91F8C14C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BB3F-F1B9-4500-9415-7C7B7BE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9D41-CBFE-4709-BD54-17F4B81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63E2-758A-4293-A014-1C68A59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1FAF-B4AD-4373-98FD-9A934C0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2C81B-D9E3-418C-9F34-041D8BE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8719-43FF-4D3D-91F8-F5859E6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1BF-00E9-4938-B8B4-C02ECF4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988F-1942-4DAA-ADCE-F0EE7EF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BFFF-88AF-4186-BE09-9ECFAE2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DADD-A1BE-4B11-B801-374E6BA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A006-AF89-47BB-9933-2AD612BE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254ED-D525-4795-8C95-93E96F08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011E-FE66-4973-878A-C10C5AF4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591BC-6506-40FE-9D6F-5779DCD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42BEE-5482-4292-8FA5-DC66650D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A5A9-1240-4DA6-BB94-DD5DAC51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604F-E1A9-40C3-B4CF-1B835C6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CAA-6E85-4F18-8DD0-0FC46EB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8485A-9A38-4C36-84C5-F0E8F4C5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E1625-AF3B-4377-9D45-8032185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28C1F-6122-431D-9784-378451E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9ADC-5DCB-4B8D-BE28-202F4D3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E086-5041-4894-BEE5-1342844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2890-92D8-40B5-8BB6-DC6EFBA8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F269-5358-484B-8E98-E6BE03FD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FA070-5879-4B14-B501-83A29ABE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ACC76-E7D9-48C1-B190-AA8E5AFE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E0FDE-BBA9-440B-BDFD-FBAB30F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030-9A2D-467E-8325-589EEF85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BBD0-723D-45AF-94EB-3AF0F45F8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1E1A-7D41-43E7-895B-FA663E9DA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FF3-C656-4BB7-80E9-8F6ADC5F6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1A0E-E292-4C15-946B-7F9E3845F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049-4E99-4AD7-897A-5F2AE8B66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A64-76DD-4509-9415-1BE67F665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C9B-A067-4BDF-ABF8-F3BD608D1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7476-35F7-4BFF-9B77-6DA8B8A58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83A5-8E7F-40A4-BF9F-86753F09F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1C7C-FCA6-407F-B8FE-3FB9E9189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99D-F55F-44C3-B8DE-9F402D603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546-8B94-4317-9A57-9507DF736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E96-5E13-4E52-9502-BF74EC676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AD4-56D9-4AEF-A2C4-9368E95B0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DF1-AD34-42A0-BC89-A0D237B642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DD1-9E47-425E-A242-F43A35EDC5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3BB-B494-4C8B-9C03-1465DDD06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C7E6-0D1E-4B9D-9874-43FC85FB7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3230-1CB0-41AE-96C4-F9380241E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620-5164-4A37-BD2F-D9AF90F71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010D-F11A-41E1-8DCB-B5709D35A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113B-565C-45C0-8635-9CE76932E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80C-48DB-4D10-AAAA-B24DB7908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538B-EC30-4F6A-AA68-7B4034615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ECC-5B65-409E-A8C2-5DF60DD93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DA13-027A-4594-9A25-83F2E9E19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A22-B959-453B-86BB-58802DD3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29FE-5893-4409-A1B2-12BB77FF9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D20-2B63-48CC-A864-939408A87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C02-84F0-4FE8-B8A8-83E60A8E7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B32-6950-4EBE-BEBA-C58FC8056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C1C-74E6-49AF-9C19-D42618F47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CAA-3F87-4DE6-9B9E-CB6B486A5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D13-810D-414C-8BE3-0492A110C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0350-9106-41F4-9F0E-AECD5121B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76D-D8BA-46B7-AF63-10EA2E3BC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FAA-5BC8-42AB-B345-597557189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AEC-6DBB-4636-BE07-8915FB00FB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AEA9-A174-4CC6-97E0-5571149DC4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30320" y="3087720"/>
            <a:ext cx="89056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080" y="1886040"/>
            <a:ext cx="9105840" cy="3085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74124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1" descr=""/>
          <p:cNvPicPr/>
          <p:nvPr/>
        </p:nvPicPr>
        <p:blipFill>
          <a:blip r:embed="rId4"/>
          <a:stretch/>
        </p:blipFill>
        <p:spPr>
          <a:xfrm>
            <a:off x="532116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2" descr=""/>
          <p:cNvPicPr/>
          <p:nvPr/>
        </p:nvPicPr>
        <p:blipFill>
          <a:blip r:embed="rId5"/>
          <a:stretch/>
        </p:blipFill>
        <p:spPr>
          <a:xfrm>
            <a:off x="727200" y="4033800"/>
            <a:ext cx="647640" cy="6080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3" descr=""/>
          <p:cNvPicPr/>
          <p:nvPr/>
        </p:nvPicPr>
        <p:blipFill>
          <a:blip r:embed="rId6"/>
          <a:stretch/>
        </p:blipFill>
        <p:spPr>
          <a:xfrm>
            <a:off x="5335560" y="4048200"/>
            <a:ext cx="6476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3800" y="1138320"/>
            <a:ext cx="8096400" cy="458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66640" y="1905120"/>
            <a:ext cx="8008920" cy="3047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4400" y="1123920"/>
            <a:ext cx="9113760" cy="4610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042920" y="3659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85640" y="2600280"/>
            <a:ext cx="8172720" cy="1657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6920" y="2579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32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